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34FE8-3FC8-4F92-AD2F-A3A2A2CE0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BC7B2-29FB-4396-B6C6-EE474890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C000-D558-4A08-A2B9-8819523C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E97A5-9264-4D06-87B4-90FE797F8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E1743-A24F-4FFD-BF2B-EAB56119E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81BAD-CD40-4E1F-8D4A-8EAC6B077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721FD-2DB3-4483-8B5F-066B3CC8D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DCAB6-603C-4690-8043-56775B84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DF95-2B09-4325-B857-14B20C46E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22BD8-1A08-40F3-85F3-3D24603BF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D4E26-1225-4FA8-9A59-CC7B87E0F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E97F-FEF5-4B3C-B4C3-899E7C4A0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663E8-CD96-466D-91E8-2B156E73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90E46-3ED9-4D0E-998D-4780A2DEC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CD7B3-C4E0-4946-89BA-FE38B00D7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43D7D-7FD0-494B-A73C-A30078CB1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95BC2-E846-48A3-86E3-23362E422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26F0-2EC6-49A8-9F43-A5ACF206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AACF-9CD6-4636-83B4-858AD433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574D-6F80-4779-B792-E6132C71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FB25-BCDF-4587-AE78-9FDD5ADB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A7C4-3767-465B-8F42-74A7E67A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C5A5-9172-4919-9D24-1BA73878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A4A3B-0B6B-436C-8592-88991247E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6680" cy="6858000"/>
            <a:chOff x="-720" y="-4680"/>
            <a:chExt cx="106668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57575"/>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5757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1E59-106E-48DE-8FC4-6A54B4D75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D7A8-9B1A-48E8-88A9-4BF06C493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RST AID ON CHOKING!</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2514600" y="46483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y:Alandra Sa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ormation On Choking</a:t>
            </a:r>
            <a:endParaRPr b="0" lang="en-US" sz="4400" spc="-1" strike="noStrike">
              <a:solidFill>
                <a:srgbClr val="003366"/>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4,000 deaths occur each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king occurs when a person’s airway becomes blocked by an obje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7620120" y="457200"/>
            <a:ext cx="9396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	</a:t>
            </a:r>
            <a:r>
              <a:rPr b="0" lang="en-US" sz="4400" spc="-1" strike="noStrike">
                <a:solidFill>
                  <a:srgbClr val="003366"/>
                </a:solidFill>
                <a:latin typeface="Times New Roman"/>
              </a:rPr>
              <a:t>Signs Of Choking</a:t>
            </a:r>
            <a:endParaRPr b="0" lang="en-US" sz="44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will most likely grab their thro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ill turn a bright reddish color, and </a:t>
            </a:r>
            <a:r>
              <a:rPr b="0" lang="en-US" sz="3200" spc="-1" strike="noStrike">
                <a:solidFill>
                  <a:srgbClr val="000000"/>
                </a:solidFill>
                <a:latin typeface="ヒラギノ角ゴ Pro W3"/>
              </a:rPr>
              <a:t>_x0010_</a:t>
            </a:r>
            <a:r>
              <a:rPr b="0" lang="en-US" sz="3200" spc="-1" strike="noStrike">
                <a:solidFill>
                  <a:srgbClr val="000000"/>
                </a:solidFill>
                <a:latin typeface="Arial"/>
              </a:rPr>
              <a:t>if it the item stays dislodged they may turn blu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s fainting may occur.</a:t>
            </a:r>
            <a:endParaRPr b="0" lang="en-US" sz="3200" spc="-1" strike="noStrike">
              <a:solidFill>
                <a:srgbClr val="000000"/>
              </a:solidFill>
              <a:latin typeface="Arial"/>
            </a:endParaRPr>
          </a:p>
        </p:txBody>
      </p:sp>
      <p:pic>
        <p:nvPicPr>
          <p:cNvPr id="135" name="" descr=""/>
          <p:cNvPicPr/>
          <p:nvPr/>
        </p:nvPicPr>
        <p:blipFill>
          <a:blip r:embed="rId1"/>
          <a:stretch/>
        </p:blipFill>
        <p:spPr>
          <a:xfrm>
            <a:off x="1219320" y="457200"/>
            <a:ext cx="1181160" cy="1625760"/>
          </a:xfrm>
          <a:prstGeom prst="rect">
            <a:avLst/>
          </a:prstGeom>
          <a:ln w="0">
            <a:noFill/>
          </a:ln>
        </p:spPr>
      </p:pic>
      <p:pic>
        <p:nvPicPr>
          <p:cNvPr id="136" name="" descr=""/>
          <p:cNvPicPr/>
          <p:nvPr/>
        </p:nvPicPr>
        <p:blipFill>
          <a:blip r:embed="rId2"/>
          <a:stretch/>
        </p:blipFill>
        <p:spPr>
          <a:xfrm>
            <a:off x="990720" y="99072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42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Stop Choking With Adults and Teenagers</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ap your arms around the person’s waste. Next put your thumb side of your wrist against the midline of the person’s abdomen and the ribcag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p your fist  with  your other hand and apply pressure inward and toward the persons diaphragm in one smooth movement. Do it 5 times. Monitor the victim after the item is dislodged. </a:t>
            </a:r>
            <a:endParaRPr b="0" lang="en-US" sz="2800" spc="-1" strike="noStrike">
              <a:solidFill>
                <a:srgbClr val="000000"/>
              </a:solidFill>
              <a:latin typeface="Arial"/>
            </a:endParaRPr>
          </a:p>
        </p:txBody>
      </p:sp>
      <p:pic>
        <p:nvPicPr>
          <p:cNvPr id="139" name="" descr=""/>
          <p:cNvPicPr/>
          <p:nvPr/>
        </p:nvPicPr>
        <p:blipFill>
          <a:blip r:embed="rId1"/>
          <a:stretch/>
        </p:blipFill>
        <p:spPr>
          <a:xfrm>
            <a:off x="7696080" y="380880"/>
            <a:ext cx="1079640" cy="162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Stop Choking With Infants and Young Childre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the child down on your forearm with the head lower than your knee.  Put support on the child’s head. Put your hand on their lower jaw and chest. Give the child 4 gentle blows with the heel of your hand.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the victim on your thigh. Give 4 slow distinct chest thrust on the middle of the victims chest. Press your index finger right between there chest.  </a:t>
            </a:r>
            <a:endParaRPr b="0" lang="en-US" sz="2800" spc="-1" strike="noStrike">
              <a:solidFill>
                <a:srgbClr val="000000"/>
              </a:solidFill>
              <a:latin typeface="Arial"/>
            </a:endParaRPr>
          </a:p>
        </p:txBody>
      </p:sp>
      <p:pic>
        <p:nvPicPr>
          <p:cNvPr id="142" name="" descr=""/>
          <p:cNvPicPr/>
          <p:nvPr/>
        </p:nvPicPr>
        <p:blipFill>
          <a:blip r:embed="rId1"/>
          <a:stretch/>
        </p:blipFill>
        <p:spPr>
          <a:xfrm>
            <a:off x="7718400" y="685800"/>
            <a:ext cx="1425600" cy="10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o help in CPR</a:t>
            </a:r>
            <a:endParaRPr b="0" lang="en-US" sz="44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tly shake the person to determine where there they are responsive. If not call for help.</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person is on a hard surface and check for breathing.</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erson is not breathing, deliver 2 breaths at one and a half to two seconds each.</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o see if they  have a pulse if not CPR needs to be perform ASAP.</a:t>
            </a:r>
            <a:endParaRPr b="0" lang="en-US" sz="2800" spc="-1" strike="noStrike">
              <a:solidFill>
                <a:srgbClr val="000000"/>
              </a:solidFill>
              <a:latin typeface="Arial"/>
            </a:endParaRPr>
          </a:p>
          <a:p>
            <a:pPr marL="325800" indent="-3258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are not trained in CPR find someone who knows CPR.</a:t>
            </a:r>
            <a:r>
              <a:rPr b="0" lang="en-US" sz="2800" spc="-1" strike="noStrike">
                <a:solidFill>
                  <a:srgbClr val="000000"/>
                </a:solidFill>
                <a:latin typeface="ヒラギノ角ゴ Pro W3"/>
              </a:rPr>
              <a:t>_x0010_</a:t>
            </a:r>
            <a:r>
              <a:rPr b="0" lang="en-US" sz="2800" spc="-1" strike="noStrike">
                <a:solidFill>
                  <a:srgbClr val="000000"/>
                </a:solidFill>
                <a:latin typeface="Arial"/>
              </a:rPr>
              <a:t> Call 911!</a:t>
            </a:r>
            <a:endParaRPr b="0" lang="en-US" sz="2800" spc="-1" strike="noStrike">
              <a:solidFill>
                <a:srgbClr val="000000"/>
              </a:solidFill>
              <a:latin typeface="Arial"/>
            </a:endParaRPr>
          </a:p>
        </p:txBody>
      </p:sp>
      <p:pic>
        <p:nvPicPr>
          <p:cNvPr id="145" name="" descr=""/>
          <p:cNvPicPr/>
          <p:nvPr/>
        </p:nvPicPr>
        <p:blipFill>
          <a:blip r:embed="rId1"/>
          <a:stretch/>
        </p:blipFill>
        <p:spPr>
          <a:xfrm>
            <a:off x="6629400" y="457200"/>
            <a:ext cx="162576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se Simple Steps Could Save Someone You Love!</a:t>
            </a:r>
            <a:endParaRPr b="0" lang="en-US" sz="4400" spc="-1" strike="noStrike">
              <a:solidFill>
                <a:srgbClr val="003366"/>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4038480" y="4343400"/>
            <a:ext cx="1625760" cy="1473120"/>
          </a:xfrm>
          <a:prstGeom prst="rect">
            <a:avLst/>
          </a:prstGeom>
          <a:ln w="0">
            <a:noFill/>
          </a:ln>
        </p:spPr>
      </p:pic>
      <p:sp>
        <p:nvSpPr>
          <p:cNvPr id="149" name=""/>
          <p:cNvSpPr/>
          <p:nvPr/>
        </p:nvSpPr>
        <p:spPr>
          <a:xfrm>
            <a:off x="3171960" y="473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13:17:03Z</dcterms:created>
  <dc:creator>Kraybill Campus LMS</dc:creator>
  <dc:description/>
  <dc:language>en-US</dc:language>
  <cp:lastModifiedBy>Kraybill Campus LMS</cp:lastModifiedBy>
  <dcterms:modified xsi:type="dcterms:W3CDTF">2011-05-24T13:12:12Z</dcterms:modified>
  <cp:revision>6</cp:revision>
  <dc:subject/>
  <dc:title>FIRST AID ON CHOKING!</dc:title>
</cp:coreProperties>
</file>